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8AC-1834-442E-9025-703CACA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910-A391-49FE-9848-E0C13B8C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67E-649B-459F-9ECC-53620FF5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A78-560B-48BB-8EAF-C68B778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FDC-F4C2-4080-8D88-C9757C76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2ACE-F591-4B68-8BF1-1B073D1C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785-86EF-425A-90EB-98688456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844E-CA88-47C0-8A2A-D1B04255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E2F6-5549-42BF-901A-E0DEDB0F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4B99-FAA9-40DA-9555-F8C514B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401-7F60-411E-87C0-C8FBAF3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641-62C7-41CB-B192-59862C77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912A-6F29-44A1-BF8B-0F7A9EF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A9F5-5583-40E5-941E-2E24C336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68C9-79F1-4305-BA94-79D7D185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788-7E95-4644-A091-3F0110EF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CA6-A44A-4F2E-B7DD-2E61750A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BCE-5492-4224-80AF-26486669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87A-38FC-4B54-8D49-7B1C589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A00-51E7-4898-B13C-03967703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C4F-0A91-4625-81F1-D0D572C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384-3916-481B-8812-A0D66BA9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5CC-8325-4994-8FC8-D7F6498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290-6D50-4300-976A-6A74DC0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B5F-CDAF-4717-968D-635A1246D7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2C3A-2003-476F-B2C6-97C0549D96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al was their main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toreth, Baal’s wife, their principal goddess; personification of the reproductive principle of 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tar was her Babylonian name; Astarte her Greek and Roman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alim, plural of B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taroth, plural of Ashtore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era was a sacred pole, cone of stone, or a tree stump, representing the godd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les of Baal and Ashtoreth were usually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estesses were temple prostit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domites were male temple prostit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orship consisted in the most extravagant or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temples were the centers of 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offered children, even new-born babies as sacrifices to B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igion of the Canaani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, Canaanites worshipped, by immoral indulgence, as religious rite, in the presence of their god; and then, by murdering their first-born children, as a sacrifice to these same g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d become a sort of “Sodom and Gomorrah” on a national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wonder why God commanded Israel to exterminate the Canaanit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ed from Halley’s Bible Handbook, p. 16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d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in Mizpeh, territory of G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16916400">
            <a:off x="3487320" y="337068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35812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5053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zpe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419360" y="3886200"/>
            <a:ext cx="190476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Frank D Vines</cp:lastModifiedBy>
  <dcterms:modified xsi:type="dcterms:W3CDTF">2005-02-20T14:01:11Z</dcterms:modified>
  <cp:revision>27</cp:revision>
  <dc:subject/>
  <dc:title>Slide 1</dc:title>
</cp:coreProperties>
</file>